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8DE-748E-49B6-B6F8-CE3C3F36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A24-09C5-4EAB-A1AC-1C401743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18D-C0BA-4F5E-B7E2-FF521373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459-989B-417F-9399-A5B42F98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3B1-D531-44A6-96D5-5BE35BC5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BE2-147E-4F25-8F70-4092157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93E-FB82-4058-B72B-730473AF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D4-DE6F-4CA7-854E-1BAEC9E7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AD3-1BFC-4509-A756-A1A890C6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B0D-BC30-4C7A-997C-6B995406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2C2-B9CD-45B3-8097-4AF63F6F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906-0F0F-48D4-BB15-B95DDF1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69D5-DF4F-4850-804F-BF03BE13F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E114-04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Infant, Toddler and Early Childhood Development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Get comfortable, grab something to drink, and socialize with your classmates. We will begin at 8 P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Fou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s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chart from course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e a minimum of 6 items for each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 grading rubric prior to sub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Word to check spelling/gramm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5" descr="Dev.chart.jpg"/>
          <p:cNvPicPr/>
          <p:nvPr/>
        </p:nvPicPr>
        <p:blipFill>
          <a:blip r:embed="rId1"/>
          <a:stretch/>
        </p:blipFill>
        <p:spPr>
          <a:xfrm>
            <a:off x="4419720" y="1981080"/>
            <a:ext cx="4398840" cy="319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Four Project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6" descr="Unit4_Rubric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a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inte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reading.jpg"/>
          <p:cNvPicPr/>
          <p:nvPr/>
        </p:nvPicPr>
        <p:blipFill>
          <a:blip r:embed="rId1"/>
          <a:stretch/>
        </p:blipFill>
        <p:spPr>
          <a:xfrm>
            <a:off x="5638680" y="1676520"/>
            <a:ext cx="2819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 directed spe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rn capacity for langu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haviorist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development first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grandpa.jpg"/>
          <p:cNvPicPr/>
          <p:nvPr/>
        </p:nvPicPr>
        <p:blipFill>
          <a:blip r:embed="rId1"/>
          <a:stretch/>
        </p:blipFill>
        <p:spPr>
          <a:xfrm>
            <a:off x="5638680" y="1752480"/>
            <a:ext cx="313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What are some things that adults can do to assist with language develop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of books for inf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</a:rPr>
              <a:t>When should we begin exposing infants to books? Why is this importan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this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nat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of infant, specifically vision and 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er nutr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ive environ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s with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ment/bo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onsider what you, as a childcare professional, can do to provide the best environment for this development in infants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114800" y="1219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time is nearly done for tonight. As always, I have really enjoyed this hour with 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ope that you have a great wee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friends.coffee.jpg"/>
          <p:cNvPicPr/>
          <p:nvPr/>
        </p:nvPicPr>
        <p:blipFill>
          <a:blip r:embed="rId1"/>
          <a:stretch/>
        </p:blipFill>
        <p:spPr>
          <a:xfrm>
            <a:off x="914400" y="1828800"/>
            <a:ext cx="27622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night’s Qu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Play is often talked about as if it were a relief from serious learning. But for children play is serious learning. Play is really the work of childh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Roger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Fou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sychosocial and Cognitive Development of the Infa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28954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dentify important theories associated with the psychosocial and cognitive development of the inf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iscuss ways to facilitate social, emotional, and cognitive develop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Describe factors that influence the cognition, language, and literacy development of infa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ment/Bo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influencing psychosoci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influencing cognitive, language and literac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achment Theory/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1 – Indiscriminate responsiveness to humans – birth to 8-12 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2 -  focusing on familiar people – 3-6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3 – Active proximity seeking – 6 months-3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4 – Partnership behavior – 3 years – end of childh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s’ ro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are some things that mothers can do to enable their infants to become sec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hat are some things that fathers can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ELD TRIP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take a field trip to our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kisp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ne article to read and one video to watch. Return to the seminar prepared to share one idea from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ow to Help Develop Literacy Skills in Pre-School Childr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aget – Stage 1 Sensorimotor (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0 fun, silly development-boosting games to play with your ba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y Signs (vide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social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ant tempera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ing – mode of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awar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al expre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babies.jpg"/>
          <p:cNvPicPr/>
          <p:nvPr/>
        </p:nvPicPr>
        <p:blipFill>
          <a:blip r:embed="rId1"/>
          <a:stretch/>
        </p:blipFill>
        <p:spPr>
          <a:xfrm>
            <a:off x="4724280" y="2362320"/>
            <a:ext cx="35197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nd and attach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experi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o-cul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t with careg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of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parent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all health, safety and freedom from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7:59:41Z</dcterms:created>
  <dc:creator>Joyce Jones</dc:creator>
  <dc:description/>
  <dc:language>en-US</dc:language>
  <cp:lastModifiedBy>Joyce Jones</cp:lastModifiedBy>
  <dcterms:modified xsi:type="dcterms:W3CDTF">2010-10-13T01:16:02Z</dcterms:modified>
  <cp:revision>26</cp:revision>
  <dc:subject/>
  <dc:title>Unit Four  Infant, Toddler and Early Childhood Development</dc:title>
</cp:coreProperties>
</file>